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92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808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9400" y="99036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808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9400" y="3895920"/>
            <a:ext cx="27723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920" y="389592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990360"/>
            <a:ext cx="4201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3895920"/>
            <a:ext cx="8610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SzPct val="4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hyperlink" Target="https://normalville.org/setec/out_in_the_open/equals.jpg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Module 10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nt &amp; Cognitive Appro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7" descr="Press"/>
          <p:cNvPicPr/>
          <p:nvPr/>
        </p:nvPicPr>
        <p:blipFill>
          <a:blip r:embed="rId1"/>
          <a:stretch/>
        </p:blipFill>
        <p:spPr>
          <a:xfrm>
            <a:off x="2743200" y="2057400"/>
            <a:ext cx="367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gnitive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gnitive learning involves mental processes such as attention &amp; mem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ocial cognitive lear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sults from watching, imitating, and mode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es not require the observer to perform any observable behavior or receive any observable rew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ognitive"/>
          <p:cNvPicPr/>
          <p:nvPr/>
        </p:nvPicPr>
        <p:blipFill>
          <a:blip r:embed="rId1"/>
          <a:stretch/>
        </p:blipFill>
        <p:spPr>
          <a:xfrm>
            <a:off x="2590920" y="3276720"/>
            <a:ext cx="36576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Bandura’s Social Cognitive Theory 4 Process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tten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bserver must pay attention to what the model says or do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bserver must remember the information so that it can be retrieved and used la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mit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bserver must be able to use the remembered information to guide his/her own actions and imitate the model’s behavi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bserver must have some reason or incentive to imitate the model’s behavi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mitating"/>
          <p:cNvPicPr/>
          <p:nvPr/>
        </p:nvPicPr>
        <p:blipFill>
          <a:blip r:embed="rId1"/>
          <a:stretch/>
        </p:blipFill>
        <p:spPr>
          <a:xfrm>
            <a:off x="3657600" y="4724280"/>
            <a:ext cx="1274760" cy="198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RannaandRebecca"/>
          <p:cNvPicPr/>
          <p:nvPr/>
        </p:nvPicPr>
        <p:blipFill>
          <a:blip r:embed="rId2"/>
          <a:stretch/>
        </p:blipFill>
        <p:spPr>
          <a:xfrm>
            <a:off x="5562720" y="4724280"/>
            <a:ext cx="1320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HA!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Insight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676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d by the sudden and expected solution to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lfgang Koh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d the Trial and Error learning of Thorndike (cat in a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tan’ the ch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2"/>
          <p:cNvPicPr/>
          <p:nvPr/>
        </p:nvPicPr>
        <p:blipFill>
          <a:blip r:embed="rId1"/>
          <a:stretch/>
        </p:blipFill>
        <p:spPr>
          <a:xfrm>
            <a:off x="5486400" y="3048120"/>
            <a:ext cx="2395440" cy="34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deaLightBulb02"/>
          <p:cNvPicPr/>
          <p:nvPr/>
        </p:nvPicPr>
        <p:blipFill>
          <a:blip r:embed="rId2"/>
          <a:stretch/>
        </p:blipFill>
        <p:spPr>
          <a:xfrm>
            <a:off x="2057400" y="3886200"/>
            <a:ext cx="205596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orndike’s Law of Effec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8724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s followed by positive consequences are strengthened while behaviors followed by negative consequences are weake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edwardleethorndike"/>
          <p:cNvPicPr/>
          <p:nvPr/>
        </p:nvPicPr>
        <p:blipFill>
          <a:blip r:embed="rId1"/>
          <a:stretch/>
        </p:blipFill>
        <p:spPr>
          <a:xfrm>
            <a:off x="3657600" y="914400"/>
            <a:ext cx="1522440" cy="2352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coo30205"/>
          <p:cNvPicPr/>
          <p:nvPr/>
        </p:nvPicPr>
        <p:blipFill>
          <a:blip r:embed="rId2"/>
          <a:stretch/>
        </p:blipFill>
        <p:spPr>
          <a:xfrm>
            <a:off x="304920" y="4191120"/>
            <a:ext cx="1890720" cy="2324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fish_6"/>
          <p:cNvPicPr/>
          <p:nvPr/>
        </p:nvPicPr>
        <p:blipFill>
          <a:blip r:embed="rId3"/>
          <a:stretch/>
        </p:blipFill>
        <p:spPr>
          <a:xfrm>
            <a:off x="6629400" y="45720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vl004007"/>
          <p:cNvPicPr/>
          <p:nvPr/>
        </p:nvPicPr>
        <p:blipFill>
          <a:blip r:embed="rId4"/>
          <a:stretch/>
        </p:blipFill>
        <p:spPr>
          <a:xfrm>
            <a:off x="2362320" y="4800600"/>
            <a:ext cx="914400" cy="903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equal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4876920"/>
            <a:ext cx="990720" cy="780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unicursl"/>
          <p:cNvPicPr/>
          <p:nvPr/>
        </p:nvPicPr>
        <p:blipFill>
          <a:blip r:embed="rId7"/>
          <a:stretch/>
        </p:blipFill>
        <p:spPr>
          <a:xfrm>
            <a:off x="3429000" y="411480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kinner’s Operant Conditio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6438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perant response is a response that can be modified by its consequences and is a meaningful unit of ongoing behavior that can be easily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nt conditioning focuses on how consequences affec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36" descr="skinner&amp;box"/>
          <p:cNvPicPr/>
          <p:nvPr/>
        </p:nvPicPr>
        <p:blipFill>
          <a:blip r:embed="rId1"/>
          <a:stretch/>
        </p:blipFill>
        <p:spPr>
          <a:xfrm>
            <a:off x="6324480" y="1676520"/>
            <a:ext cx="252756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38" descr="Skinner_Box"/>
          <p:cNvPicPr/>
          <p:nvPr/>
        </p:nvPicPr>
        <p:blipFill>
          <a:blip r:embed="rId2"/>
          <a:stretch/>
        </p:blipFill>
        <p:spPr>
          <a:xfrm>
            <a:off x="1752480" y="3581280"/>
            <a:ext cx="32767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ff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es a Rat Press a Lever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48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t has not been fed for some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to condition the rat to press the lever, which is called an operan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haping by successively reinforcing successive approximations of the desire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xperimenter successively reinforces behaviors that lead up to the desired behavior (p-2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haping, the reinforcer should immediately follow after the desire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16875405"/>
          <p:cNvPicPr/>
          <p:nvPr/>
        </p:nvPicPr>
        <p:blipFill>
          <a:blip r:embed="rId1"/>
          <a:stretch/>
        </p:blipFill>
        <p:spPr>
          <a:xfrm>
            <a:off x="838080" y="533520"/>
            <a:ext cx="74170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ff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amples of Operant Conditioning: Toilet Train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rget behavi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al is for Sheryl to urinate in the toil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ive Sheryl a large glass of apple ju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inforc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ch time Sheryl performs the desired behavior, she receives an immediate reinforc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ch time Sheryl performs a step that leads up to using the toilet, she receives reinforc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oillet"/>
          <p:cNvPicPr/>
          <p:nvPr/>
        </p:nvPicPr>
        <p:blipFill>
          <a:blip r:embed="rId1"/>
          <a:stretch/>
        </p:blipFill>
        <p:spPr>
          <a:xfrm>
            <a:off x="5943600" y="4419720"/>
            <a:ext cx="14288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erant vs. Classical Condition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400" y="990360"/>
            <a:ext cx="8496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nt=  + or – rate of respon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.C. = create new response to a neutral stim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ntary or involuntary respon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nt= must perform a voluntary response before receiving a rew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.C.= involuntary responses to a by a stimul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ingent or conditioned respon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erant= contingent on the consequ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.C.= response is condition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Bart%20the%20Bear"/>
          <p:cNvPicPr/>
          <p:nvPr/>
        </p:nvPicPr>
        <p:blipFill>
          <a:blip r:embed="rId1"/>
          <a:stretch/>
        </p:blipFill>
        <p:spPr>
          <a:xfrm>
            <a:off x="617220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inforce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infor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sequence that occurs after a behavior and increases 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lihood that the behavior will occur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i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ation of a stimulus that increases the probability that the behavior will occur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ative reinfor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versive stimulus whose removal increases the likelihood that the preceding response will occur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aspirin"/>
          <p:cNvPicPr/>
          <p:nvPr/>
        </p:nvPicPr>
        <p:blipFill>
          <a:blip r:embed="rId1"/>
          <a:stretch/>
        </p:blipFill>
        <p:spPr>
          <a:xfrm>
            <a:off x="3581280" y="46483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76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nish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nsequence that occurs after a behavior and decreases the chance that the behavior will occur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Positive punish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ing an aversive stimulus after a respon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decreases the chances that a response will rec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egative punish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ving a reinforcing stimulus after a respon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decreases the chances that a response will rec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colding"/>
          <p:cNvPicPr/>
          <p:nvPr/>
        </p:nvPicPr>
        <p:blipFill>
          <a:blip r:embed="rId1"/>
          <a:stretch/>
        </p:blipFill>
        <p:spPr>
          <a:xfrm>
            <a:off x="3048120" y="46483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9:20:29Z</dcterms:created>
  <dc:creator>Josh</dc:creator>
  <dc:description/>
  <dc:language>en-US</dc:language>
  <cp:lastModifiedBy>hberndt</cp:lastModifiedBy>
  <dcterms:modified xsi:type="dcterms:W3CDTF">2009-03-04T22:06:28Z</dcterms:modified>
  <cp:revision>28</cp:revision>
  <dc:subject/>
  <dc:title>No Slide Title</dc:title>
</cp:coreProperties>
</file>